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4404-A45F-4AE9-8199-CE549F61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7B74-CF11-4A19-9636-279DD59A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4CC7-7FDA-494C-88C4-077105A8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078E-8A11-4262-923C-8506EC64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EAE-A07F-41F1-96D3-58687D68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B2C-439F-421D-BF09-265E61C8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D819-61A9-4F3A-AC7D-6073CB84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5A7-CE43-41F5-A30E-06C419D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B23-9B5A-47D2-AF5C-D2BA07C2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ADCF-8AAD-43D4-BD24-83FCF7D4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F7B-EDE0-427C-9F37-168A9B9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F3D5-4604-443E-A54D-C4AA5F8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A895-5366-46FE-A771-CD5BD9B4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3E4A-28EE-4524-98B5-7A455FA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B77B-6A77-425A-A61D-399E303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F64D-413C-44FF-BAFD-4F64E9DD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0AFB-F07B-442B-AAA3-8BBD8E3F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7B2C-2DED-450D-B871-F421BA29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E4CD-C05D-4AF6-8227-436A4AF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AA6B-CFFB-4BC6-9EE1-0FA9F922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690A-2CB8-489E-BF33-B1DE0D6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A7D0-97D6-40DB-826E-C35A209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9788-A6EC-458B-B859-DA64FD3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2C59-EE11-4374-8E9E-61E2B6C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1C6-8DE3-4ABE-9872-AF03D216FB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9CF6-4E65-4D46-AA9C-E5666114BE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utorial.teachtci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acing Slave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y Aliv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230508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frican Woman with a Basket on Her Head - Royalty Free Clipart Picture"/>
          <p:cNvPicPr/>
          <p:nvPr/>
        </p:nvPicPr>
        <p:blipFill>
          <a:blip r:embed="rId2"/>
          <a:stretch/>
        </p:blipFill>
        <p:spPr>
          <a:xfrm>
            <a:off x="762120" y="1981080"/>
            <a:ext cx="192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Critical Thinking Question A, and record group’s choice and reasoning after number 3 on your reading no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chos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: Refuse to sell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: Raid other villages and kidnap others to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: Trade your own servants, prisoners, and crimi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4 and record notes to see how the Africans actually responded to the European Slave Trader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2: The Middle Pass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66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do you see drawn on each ima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may have drawn this ima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would you feel in these conditions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think the Africans respond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62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2: The Middle Pass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section 8.5 and record no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Discussion: Critical Thinking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would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use to e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organize a revol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keep your strength for surviv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6 and record notes to see how the Africans actually responded during the Middle Passag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3: Arrival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re the people doing? 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might the man on the horse b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you think the enslaved Africans responded to this situ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9880" y="1566720"/>
            <a:ext cx="495324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3: Arrival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8.7 and record your thoughts onto your reading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group will discuss Critical Thinking C and record answers onto reading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would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 away and risk being caugh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ly resist slavery by breaking tools and working slowl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hard and hope to be treated wel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8 and record notes to see how the Africans actually responded to life in America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ate Prior Knowled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dilemma is a situation that requires you to make a decision, but you do not like any of the cho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You must eat a vegetable with dinner, and you choices are Brussels Sprouts or Cauliflower.  You hate bo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You must do house chores, and your choices are raking the leaves or picking up after the do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2897280"/>
            <a:ext cx="172080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438280" y="1523880"/>
            <a:ext cx="46692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971800" y="220968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466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pter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tutorial.teachtci.com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for an online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 your name, and select chapter 8:Facing Slavery from the side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Tur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journal, copy and complete the following sentence start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One dilemma I have faced was when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I chos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…becaus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25624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pter Vocabul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nslaved Africans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from Africa that were forced to work for a “mast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iddle Passage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yage of slave traders from Africa to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lantation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rge farm with slaves who live on that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lave Auctio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ale of a slave to the highest bid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Overseer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son who was in charge of the slave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ree Dilemmas Faced by Enslaved African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section 8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each of the places on your world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the drawing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8.2:“West Africa in the 1500s” and discuss the following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re the Africans simil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re they differ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 think their culture more alike or different than that of the Europea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laver’s Cano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you describe the people sitting in the can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think is happe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might the people sitting in the canoe be sa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8769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The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we will learn about the Africans and how they faced a series of dilemmas after they encountered slave tra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26744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The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3 and record notes to question 1 in bulleted form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59:43Z</dcterms:created>
  <dc:creator>CCPS</dc:creator>
  <dc:description/>
  <dc:language>en-US</dc:language>
  <cp:lastModifiedBy>CCPS</cp:lastModifiedBy>
  <dcterms:modified xsi:type="dcterms:W3CDTF">2009-11-11T19:34:32Z</dcterms:modified>
  <cp:revision>14</cp:revision>
  <dc:subject/>
  <dc:title>Slide 1</dc:title>
</cp:coreProperties>
</file>